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27824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90516-B7ED-4DA2-BE60-0B7A73EED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2AEF9-DA40-47E8-8552-28339B78ED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DBD18-867C-4ED0-AC6E-CE663CB788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4C7C3-5F34-4778-A205-5903990FAB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2A43A-700E-4708-8536-F1B7D896BA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1139E-9B3D-4F15-A0E2-6D22B7D716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C4E3D-8157-45DE-B6DA-42574C7F13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CF408-5D05-4217-9119-DFCE28E17C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00251-29FB-4258-B947-4BE94FBB71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FDB87-CA79-4136-BA7B-62685BD718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39D14-83AC-4CA8-BC8C-6B33A1F7A1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C8BC6-F6BF-4753-8911-B56E47A3E3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7D5E6-F39F-4959-A313-A34D7A4AAA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E9B5B-266E-49EA-81CB-E9C923C761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D21CB-4485-4303-8E4D-7C82EEC89D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8335B-7E9C-4DC4-A95B-8D4BE224C5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55FB3-E4C6-462B-8BFD-BC67D9D233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BF8B1-1BB6-4043-B466-F8CD7918FE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04B1B-5005-4B78-8248-0660028295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2EB04-CAF8-44A9-8E52-4799BB4201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A68F2-1098-48A0-AE45-561C55E9EF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46F05-3B21-44D2-A724-8ECA668D3C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C041A-F0A3-4F35-9DCF-F4518AE3CB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554CB-F4BC-4308-9644-E89EA39C29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D354B-139F-4A6E-86E2-2EAF1D73B9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A1462-5BDD-442C-915C-773C968F10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4EEB5-9E10-469D-A596-E194B0B7F9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D6EF5-AF37-4779-A147-C647FA6403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E39-2B3C-49EF-B3DE-411F0A13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998-5E8B-442D-9188-60C9DBF2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16C-914D-45A3-B3FF-6A0111C8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AFE-3152-4726-A4DF-A5BFEFBF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BF0E-8B18-4A9E-8D93-853BB4F6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4C86-17B5-4021-BA53-071EE609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1527-D781-4A33-8A26-DE6BB69F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9A33-F954-4214-80E0-21A68842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589D-4706-406C-BF05-32ACFACA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A960-2986-4A2D-8911-0EF9AB67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2C91-0385-435E-9CB7-E8BF69A1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39B-6F6E-4DDA-BD0D-13954BBA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1B55-880A-40DC-AD58-4FEB145E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3790-0F84-46B8-83E1-3B94CD33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FF51-72BF-4BEC-8A69-39EE93CD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7690-C8CA-485B-8D77-E139DDE6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CA3A-A70D-4444-A9F9-4A7D2EE1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20A8-AF12-439B-A2C8-3FB3F18C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3071-4DA8-492B-9445-12FEBA1E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6EF21-4E21-4FD4-872C-0EFBD533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2625-6B4D-4A36-B9EA-8A970B0B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0EDFB-3AC9-4DF2-AEF1-C3BF07AB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748-2657-4507-A350-F07E1F5F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DBBC-3B85-4BC6-9879-5ABDEE73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DF492-FE49-4E03-B5C1-288A13D3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7A1A-A20A-4685-84D0-9E22395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A3DD-4167-4283-A489-62919A91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1122-8004-4A40-BFA4-30DDA7C3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5D67-BEB8-4D62-87BA-E1261E24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C834-28BC-43B7-A136-DD3570F8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61268-7AFD-484A-8928-44402F6B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0174-3927-4AD5-A5BB-C9ACE4F3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CB2E-44B3-430C-9806-C0EC27E6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EC9-2C21-4B1D-919B-C2FA1DF0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9F79-C6B6-41CC-866B-E4ECAA24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326E-8491-4387-929C-A416DE24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D3A20-BCF9-4F51-A104-2F2A912F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0FCFC-7010-48C5-9938-36B1022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2DE7C-C006-485C-B976-18902E4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1AF93-B497-427B-9952-0C7162C8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B7F25-1DBD-4FAB-8CCA-B2F50014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D9B2-538D-4876-959E-99FF8D24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34B5-C3CB-44E6-B09C-2CB080A4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A66EF-F712-4E8B-8386-CECC7503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315-EAE9-4AC0-8FBB-CFEFFB16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0F32-0D28-4671-8CC8-19DB6AB6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3DCA9-6FB8-4487-AFE2-CD740A02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3DED1-6DE6-465C-ADB3-CF48833D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F3346-8B4E-4782-B16B-4DAE3DA9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26252-C95C-481C-9447-186189E3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FD03D-EC1B-483A-BFCA-33519A21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8CD09-08AC-4975-B0D6-6A9CBC93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68855-0F7C-4346-9311-7252E2E4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4B7D6-751B-48B5-9A00-2A46DF0E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45FE-3C76-46A6-B23D-07631973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EB6-8D08-4F36-A902-8563EB72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93FCD-1223-441A-BCE1-D9959634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4A9-3660-46D2-954A-F602F408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B46-B2E2-4AD2-830D-FD658C5D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777-0463-4C47-8BDB-3CA76563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E1019-6E00-411A-9D8F-5B89A3D7F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4693F-1452-4680-AAF8-80E5E4E8C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1D18B-0DB2-474E-A67F-BB6D37D795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76199-769A-447D-A31E-AD416A8C77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234A8-FCB8-4E00-976A-B13D048795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059920" y="1324080"/>
            <a:ext cx="592920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Be with Me, L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4416480" y="2201760"/>
            <a:ext cx="892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2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74840" y="6519960"/>
            <a:ext cx="180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"/>
          <p:cNvSpPr/>
          <p:nvPr/>
        </p:nvSpPr>
        <p:spPr>
          <a:xfrm>
            <a:off x="1819800" y="1476360"/>
            <a:ext cx="637128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 (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"/>
          <p:cNvSpPr/>
          <p:nvPr/>
        </p:nvSpPr>
        <p:spPr>
          <a:xfrm>
            <a:off x="2271960" y="426960"/>
            <a:ext cx="5520960" cy="62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"/>
          <p:cNvSpPr/>
          <p:nvPr/>
        </p:nvSpPr>
        <p:spPr>
          <a:xfrm>
            <a:off x="1990440" y="1476360"/>
            <a:ext cx="6067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 (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2252160" y="426960"/>
            <a:ext cx="521748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"/>
          <p:cNvSpPr/>
          <p:nvPr/>
        </p:nvSpPr>
        <p:spPr>
          <a:xfrm>
            <a:off x="2810880" y="274680"/>
            <a:ext cx="4391640" cy="62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lo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praise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prais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,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ser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trust You,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trust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2458440" y="1036800"/>
            <a:ext cx="521748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"/>
          <p:cNvSpPr/>
          <p:nvPr/>
        </p:nvSpPr>
        <p:spPr>
          <a:xfrm>
            <a:off x="1990440" y="1476360"/>
            <a:ext cx="6067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 (3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-360360" y="1403280"/>
            <a:ext cx="1124568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When I Survey /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73280" y="1874880"/>
            <a:ext cx="88390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hen I survey the wondrous cros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n which the Prince of glory died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My richest gain I count but loss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pour contempt on all my p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97040" y="901800"/>
            <a:ext cx="833580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ometimes I feel that I could fig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 army with just me and You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there’s no one could harm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h, but sometimes I can feel a little s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t’s then I need to kno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at You are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at’s wh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m si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468360" y="1798560"/>
            <a:ext cx="914400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ee from His head, His hands, His feet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orrow and love flow mingled down!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id e’er such love and sorrow meet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r thorns compose so rich a crow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773280" y="42696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849240" y="2484360"/>
            <a:ext cx="88394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ll who gath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y grace draw near and 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106640" y="1341360"/>
            <a:ext cx="7914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ere the whole realm of nature m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at were a present far too small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ove so amazing, so div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773280" y="42696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49240" y="2484360"/>
            <a:ext cx="88394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ll who gath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y grace draw near and 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773280" y="137952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588680" y="808200"/>
            <a:ext cx="69472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ove so amazing, so div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093840" y="1403280"/>
            <a:ext cx="364032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Sanctu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624560" y="2352600"/>
            <a:ext cx="892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4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182960" y="2712960"/>
            <a:ext cx="7732080" cy="3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Lord, prepare me to be a sanct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ure and holy, tried and tr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thanksgiv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ll be a living sanctuary for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239760" y="2705040"/>
            <a:ext cx="9524880" cy="26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t was You, Lord, who gave the S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art and soul, Lord, to ev’ry 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t is You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ho knows my weaknes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 refine me with thine own 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0" y="2179800"/>
            <a:ext cx="9840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 Lord, Be with me, Be with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be my only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182960" y="2712960"/>
            <a:ext cx="7732080" cy="3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Lord, prepare me to be a sanct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ure and holy, tried and tr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thanksgiv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ll be a living sanctuary for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5"/>
          <p:cNvSpPr/>
          <p:nvPr/>
        </p:nvSpPr>
        <p:spPr>
          <a:xfrm>
            <a:off x="544680" y="2789280"/>
            <a:ext cx="891540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ead me O Lord, through temptat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 refine me from with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Fill our hearts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r Holy Spiri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take all our sins 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82960" y="2712960"/>
            <a:ext cx="7732080" cy="3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Lord, prepare me to be a sanct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ure and holy, tried and tr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thanksgiv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ll be a living sanctuary for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182960" y="2712960"/>
            <a:ext cx="7732080" cy="3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Lord, prepare me to be a sanct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ure and holy, tried and tr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thanksgiv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ll be a living sanctuary for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683800" y="1116000"/>
            <a:ext cx="502704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Awesome G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757760" y="2200320"/>
            <a:ext cx="892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44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79640" y="5940360"/>
            <a:ext cx="180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972800" y="1303200"/>
            <a:ext cx="624456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ur God is an awesome Go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 reigns from heaven abo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wisdom, pow’r and lov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ur God is an awesome Go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95240" y="1569960"/>
            <a:ext cx="847908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 know You said that I would not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ested more than I could bea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that You have my best in mi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ev’rything that ever comes my w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 know You’re in control s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ar me as I pra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m si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2255760"/>
            <a:ext cx="9840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 Lord, Be with me, Be with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be my only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465920" y="579600"/>
            <a:ext cx="713772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Now help me, Lord, to share wh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ve been giv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lp me make a diff’rence wi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life I’m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s I show my neighbor w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rue treasure’s stor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lp me know You promis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’d be with me, Lo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’m si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2027160"/>
            <a:ext cx="9840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 Lord, Be with me, Be with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Lord, Be with me,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e with me, be my only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2444400" y="1957320"/>
            <a:ext cx="51519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Love The Lord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Your G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wade</dc:creator>
  <dc:description/>
  <dc:language>en-US</dc:language>
  <cp:lastModifiedBy>pcwade</cp:lastModifiedBy>
  <dcterms:modified xsi:type="dcterms:W3CDTF">2015-03-12T05:58:59Z</dcterms:modified>
  <cp:revision>10</cp:revision>
  <dc:subject/>
  <dc:title>Slide 1</dc:title>
</cp:coreProperties>
</file>